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BE0B-5698-41F3-BA0E-7DF99ED44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8176-4AE7-456D-A02E-B76A2CD8B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0728-D0CE-462B-A70D-ADD254293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3132-7208-4F9C-9232-64F1D24E6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99F3C0-0AAC-46B9-9EE5-A8C909A6D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FF6813-507B-4CE1-970E-C66CFB905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0138C7-75A2-46C7-B51D-33B6B8B6E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23DF64-F5C9-4BA3-9859-DFAA09290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FC6998-6C33-46EB-B854-50D7B9FEA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0349DF-7840-493C-A4F4-A2DB4636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7EB83B-4A41-4838-9BDE-BB0F131B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270B-7F34-44F2-9716-0AD4DD6FE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6E6AD3-02D0-4025-B476-98E397BB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F3BF86-58E1-4CFC-B316-81DEF5CC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C3CEBD-51FB-4631-8613-AE2A517F7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D73EDF-2EFD-46FA-8844-1326D2235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59A282-C7EA-4B83-93FB-39F59C68A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B14A5-7D5E-41A2-9184-0B5F6E9B4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F0E4B-ECC6-4456-8F34-C84A6240A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0ACF7-02A9-4B50-BDF9-D22B398CE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EA114-2240-46FA-9A56-579E88D3F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74816-0676-4F36-B7C7-7470B7B97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C3BC-1F15-408D-9FDE-0EBAFE486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2BBE3-17EF-4A2E-BEF4-CB7688C61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13ED5-2457-45CF-A8FB-29810785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DD2CD-AB0D-4955-87EC-05D9B273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0CA3C-97B9-41B7-8572-B385E3D1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C5FD9-D142-4AAC-9E39-A466D688F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AB665-8315-4764-B35D-CABE1E053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69755-FE3A-418D-AB54-638AAD1C2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5862-30F2-4858-8531-97F4BCAE9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93FD-8308-41F4-AC01-20EE49ADF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1D2D-47B0-46C4-B65C-075CD1658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E16A-6A30-4969-9614-B3D8820D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4811-ED01-4A61-8E08-8074A114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D9E8-231A-48FC-8F26-17EAB619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C6E18-59AD-4006-8F53-1C7125B910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4BC9A-47FB-478A-A4F1-0B2E07FECF9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64FF5-B02F-470D-8E54-1B5B71F32C9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Jelenlétedben elolvad szívem, szerelmed elűz minden félelmet.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egnyugszik lelkem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és új erőt kapok,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eg tudom tenni a lehetetlent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ltalom, menedék,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a szélvész tombol.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rős torony az ellenség elől.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iztos kézzel megóv engem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inden bajtól,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 lelkem Hozzá menekül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Felébred bennem az alvó sasmadár,</a:t>
            </a:r>
            <a:br>
              <a:rPr sz="4400"/>
            </a:b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a hit szárnyain szállok fel magasra.</a:t>
            </a:r>
            <a:br>
              <a:rPr sz="4400"/>
            </a:b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Élő reménység tölti el szívem,</a:t>
            </a:r>
            <a:br>
              <a:rPr sz="4400"/>
            </a:br>
            <a:r>
              <a:rPr b="1" lang="hu-HU" sz="4400" spc="-1" strike="noStrike">
                <a:solidFill>
                  <a:srgbClr val="e5e5ff"/>
                </a:solidFill>
                <a:latin typeface="Garamond"/>
              </a:rPr>
              <a:t>újra látom a láthatatlant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ltalom, menedék,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a szélvész tombol.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rős torony az ellenség elől.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iztos kézzel megóv engem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inden bajtól,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 lelkem Hozzá menekül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Oltalom, menedék,</a:t>
            </a:r>
            <a:br>
              <a:rPr sz="5400"/>
            </a:b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ha szélvész tombol.</a:t>
            </a:r>
            <a:br>
              <a:rPr sz="5400"/>
            </a:b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Oltalom.</a:t>
            </a:r>
            <a:br>
              <a:rPr sz="54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(2x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ltalom, menedék,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a szélvész tombol.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rős torony az ellenség elől.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iztos kézzel megóv engem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inden bajtól,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 lelkem Hozzá menekül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"/>
          <p:cNvSpPr/>
          <p:nvPr/>
        </p:nvSpPr>
        <p:spPr>
          <a:xfrm>
            <a:off x="8532720" y="333360"/>
            <a:ext cx="338400" cy="35892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8T20:59:32Z</dcterms:created>
  <dc:creator>Gyügyei Tamás</dc:creator>
  <dc:description/>
  <dc:language>en-US</dc:language>
  <cp:lastModifiedBy>Gyügyei Tamás</cp:lastModifiedBy>
  <dcterms:modified xsi:type="dcterms:W3CDTF">2005-03-19T12:03:27Z</dcterms:modified>
  <cp:revision>4</cp:revision>
  <dc:subject/>
  <dc:title>Jelenlétedben elolvad szívem, szerelmed elűz minden félelmet. Megnyugszik lelkem és új erőt kapok, meg tudom tenni a lehetetlent.</dc:title>
</cp:coreProperties>
</file>