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BEBA-A0F1-42A5-BED6-DA2863DBB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DDD9-E609-4D9F-81F6-6A7194D6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A2AD-8A55-48E9-9485-C1F4EBE69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9B25-724E-4E3A-A4C2-6BBF3EE06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D75F-1F68-44A1-BC26-7AD4182D6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6654-C11D-4FBF-9E41-87CE9F64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1A31-3CE8-46E0-B00E-5DEEF7CC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BBE0-B8FC-48B3-AE08-6C834786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5E5A-5571-44DA-8107-81EF4615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CECB-EFB4-4F49-92B9-CB9B05CB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2247-2679-4253-8CA2-160FD504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D4CA-246D-48C1-A13F-4E12E3CA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8789-9131-4840-AA70-0247A035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E927A-AEDE-440F-9600-9D8E8B18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BE58-17AE-4F17-817B-15613754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57E0-D167-4E2E-B01F-35C56BB1D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DA61-E8D9-45F0-BB78-CFE299CC7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51F0A-DD6D-400D-A07A-AACB672E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1340C-18CE-4198-A3F2-2FF7D8A3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7E121-B1C3-453D-82B9-192444E1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DEBFD-1D1A-457E-BD3B-3DE8C62D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99CF8-A7D8-4A83-8DC5-CABFDEC6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EF15-0500-45D3-B987-922D056F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32CFB-3673-4AFF-AE1A-4E0E3B9C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9AE33-CC61-4933-9070-22B3BCD5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CC651-848C-42F0-A7FF-0FEBFA88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277C1-5AE5-486E-984B-3CB938D5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0E360-AE24-47EC-9F3E-9AC925CE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47263-7D65-43DF-A100-24913D8E4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47DD0-8CB6-43C1-86AD-FE05BDCD6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215F-CF8F-4EF7-AC2E-C836320A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F2B0-8A34-473C-9F85-572B9DBC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53DF-D279-4439-9B24-BA57C60A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4E41-BDEA-403E-A300-3CC36D39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9CA8-3BBE-468C-BFBC-6615F9DB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098C-D60F-4A05-89C9-1F6AD242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FEC7-FED2-4125-9A96-3437EB36C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7B5F-F850-4737-90D1-448D259683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EF22-C1BD-43BE-9743-AB6A8FD912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zent vagy, szent vagy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Urunk, egyedül, teremtő Isten!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éged illet a hódolat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áldás, tisztesség!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zent vagy, szent vagy, Urunk, egyedül, megváltó Bárány!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ozzád szálljon a hála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mádás, ünneplés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Mert meghaltál, de újra élsz.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Véred folyt a kereszten értünk.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lhívtál papjaidnak.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 királyságod köztünk van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Minden lélek áldjon Téged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zálljon fel a dal a trónod elé!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Minden zúgja: Halleluja,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zent vagy, leborul a néped eléd!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zent vagy, szent vagy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Urunk, egyedül, teremtő Isten!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éged illet a hódolat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áldás, tisztesség!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zent vagy, szent vagy, Urunk, egyedül, megváltó Bárány!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ozzád szálljon a hála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mádás, ünneplés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748720" y="189000"/>
            <a:ext cx="216000" cy="287280"/>
          </a:xfrm>
          <a:prstGeom prst="smileyFace">
            <a:avLst>
              <a:gd name="adj" fmla="val 9282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15:53:19Z</dcterms:created>
  <dc:creator>Gyügyei Tamás</dc:creator>
  <dc:description/>
  <dc:language>en-US</dc:language>
  <cp:lastModifiedBy>Gyügyei Tamás</cp:lastModifiedBy>
  <dcterms:modified xsi:type="dcterms:W3CDTF">2005-09-02T15:59:22Z</dcterms:modified>
  <cp:revision>2</cp:revision>
  <dc:subject/>
  <dc:title>Tart még a kegyelem és a szívem örül, Jézus eljött hozzám, rajtam megkönyörült. Kinyújtotta karját, szelíden felemelt, amíg élek azt a percet nem feledem!</dc:title>
</cp:coreProperties>
</file>