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D6F101-9B0F-443F-A20C-3A036800A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89B809-14F3-401A-8DDF-B2084A6FA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4F8392-6C8A-43C0-9DDC-7555FB892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2EF5D0-2D8B-4115-B76F-4B11160E3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E5DE7-085A-4F14-ADBF-7ABB75C07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B6AF3-71CB-4BE7-87AC-AF812B65B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83DD2-B59E-4141-931F-9D0E6CAFD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C785C-13AD-4A20-A818-FB1A47315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83D4E-F472-406F-9D90-1DCB0ABE6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8332E-AE10-4FDD-B7B8-34E67AF53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C720C-EEB9-49B0-A567-B5480925C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3A1B69-EEC5-4998-9F3C-8865DADBB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A5BAD-32EB-498D-9E5C-9B1FA32B4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2F03B-F0EA-4EFC-BA82-0C89C1611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A93ED-5A2B-4ABF-875D-29F8A81A7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0D4CE-EE8D-4BE9-96ED-0C36202B6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1F4E3-6012-4811-AA6B-12095B391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CDB7AD-8B7E-4353-A106-6EDFE16B5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7E349E-6EC2-46A3-92A5-9A9DDAD31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86AC22-395C-4851-92E2-4B74FCF8A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24D014-CAEB-40BE-BEBA-F03173B52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BBF78A-0816-4D24-A19E-75EEA91E2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37480F-9A7A-4298-BB8A-B6FE1A56A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9CF1E3-7DD2-4C67-ACCC-0AC7514B4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14C8D-7795-471C-9F80-CD95823670E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7DEBF-F07A-4F01-93CA-C0C06E1FDB9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Jóságod, mint az óceán,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mély és végtelen,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űséged nagy, mint a magas hegyek,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Tiéd az életem!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Mindenható, dicsérünk, áldunk,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trónod örök fenn a mennyben!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zent vagy, Urunk, nagy dicsőséged,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nincs kőszikla, és nincs más Isten!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Imádjuk Őt, a Megváltó Jézust,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Úr és Király, Ő örökké él!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(2x)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Mindenható, dicsérünk, áldunk,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trónod örök fenn a mennyben!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zent vagy, Urunk, nagy dicsőséged,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nincs kőszikla, és nincs más Isten!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"/>
          <p:cNvSpPr/>
          <p:nvPr/>
        </p:nvSpPr>
        <p:spPr>
          <a:xfrm>
            <a:off x="8604360" y="260280"/>
            <a:ext cx="215640" cy="216000"/>
          </a:xfrm>
          <a:prstGeom prst="smileyFace">
            <a:avLst>
              <a:gd name="adj" fmla="val 9282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4T14:30:10Z</dcterms:created>
  <dc:creator>Gyügyei Tamás</dc:creator>
  <dc:description/>
  <dc:language>en-US</dc:language>
  <cp:lastModifiedBy>Gyügyei Tamás</cp:lastModifiedBy>
  <dcterms:modified xsi:type="dcterms:W3CDTF">2005-05-14T14:30:22Z</dcterms:modified>
  <cp:revision>1</cp:revision>
  <dc:subject/>
  <dc:title>Jóságod, mint az óceán, mély és végtelen, Hűséged nagy, mint a magas hegyek, Tiéd az életem!</dc:title>
</cp:coreProperties>
</file>